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D01-4D45-4EA2-A220-DA234DDC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33F-536B-41A9-A377-174C96F2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949-7C42-41DC-BCFA-443BD396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871-5295-40E2-9334-3BEA9142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B36-D43A-4AF7-9D8C-75738375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208-84D9-4604-89B4-B857A5EC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ACE-C05A-4B11-9B7E-A07EACE3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225-76E8-44C2-A032-3ACD4DC4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E5C-FD3B-46B5-B2EF-6852DB4F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5F8-D215-4DD5-A97A-5C2331FD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7F9-FB85-4535-9D7F-4BD30309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C15-5593-4C6D-BE67-53C5330F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4AF3-269E-4E45-9DBD-8AB04E02A8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5EEE-0723-4795-9121-DDB4052F7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24AD-5041-44B9-A945-9F8F4359B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9DBA-5004-4F5D-B865-A712275C3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9A06-36E6-4EF3-87B7-3CAE13EB6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his Workshop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opportunities presented by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sation with modes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priority research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 operation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partnership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709A-A0F6-4C89-A0F5-E70676B33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8:39Z</dcterms:modified>
  <cp:revision>83</cp:revision>
  <dc:subject/>
  <dc:title>PowerPoint Presentation</dc:title>
</cp:coreProperties>
</file>